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4535-1996-4B6F-86EE-36B2636A3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9B23-AC6A-45E0-84F3-87CF8005E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33A8-A987-4E29-8AB6-0319D28F0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7BE7-696A-4A09-9153-5865388B8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A2AE-B318-4F37-ACFD-C1A0426CB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BEA1-A386-49EF-84D9-93E84711B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A3FB-C1D3-4A28-876F-7BC58AEFC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19D0-4E4A-4E2D-A378-BBDE3D187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414B-216B-48E4-8350-999384E96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8F60-63B1-4996-9938-6AE967E00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67D7-6E47-40F4-8A94-2E32E7A82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56E2-C64D-4A67-AFDA-8EAB0BAF8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71F1-BAC8-4971-B9D7-33B3FC62F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CEE3-3200-46DE-A6A0-ECA323340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1776-2E0D-4A89-B947-51EB481DE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BD10-8075-4090-8C8A-24A2830F5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A770-23E8-4F21-9FA0-94EBDE8EC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67E7-E457-4B14-A86C-C317E09EE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9706-2C5D-4AC4-9E9F-E6BB5905D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DE1C-B948-4A48-BDC4-D4ECBB5F8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B565-D987-40CF-A0BB-51252F578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76A4-DFEC-42D6-8359-11675059B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946D-E2B0-4901-A21C-6CDF82C7C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B399-B7AD-4B77-8097-444BC975D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59C9-0BA8-47A4-AC0E-3B76750B4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E0B4-FAB2-4DC3-BB86-74C60332A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6917-1C43-469F-ABF6-1361C090F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44E9-F64B-4743-ADAB-D49DD870C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6A5E-138C-479E-815C-651863ED5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6D5A-CABD-4744-B2D8-F71CF8BEC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4D80-D999-4F7F-83C2-FBC96B7F7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4361-2488-4EDB-9DE6-91AA5A4BE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9F0A-038C-4CEC-9913-6CE9A05A7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2CDE-64B5-4920-AD97-959CFCCC8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6154-EEC0-473E-9C50-1F9789A08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DEFD-BB70-4272-89CF-557FFB47A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8D12-E587-4674-A6CF-A334EE379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E863-5628-4E41-A65C-55B925FE6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D8D4-3E0B-4DA5-809C-182AACB92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982E-2FCC-4EE9-8421-1ADF90A17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3AC0-9B78-43DD-A430-84A36AC7D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43DA-0456-4668-85F5-454C8ABAA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699F-2959-4107-B162-6F18F5A12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7724-11A5-4EA7-8BE6-9A251AC18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E89C-0482-4642-BDD0-9907F3426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ADF5-07CB-4087-BCAB-A20A66893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5DE2-6A9F-4363-93AB-CF4F116CA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1BC4-9A48-4372-880D-DCA7591B2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5D72-B35D-4700-9F10-3BC528D70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A98E-661B-48F6-981C-47E7F60CB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AE2B-2B1C-4586-82DA-CCD239B32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EB8E-DEAF-4296-8451-D2A248574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0733-E40C-4B1F-AFDB-208B402C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4B0F-8709-4BCC-A333-466B9F0D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4C48F-6AE6-4A93-97E5-CA60D9C9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90635-EA90-4241-94B8-D5955A88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71C95-1E00-4CD9-A44B-850B181E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1AF8E-5545-462F-AA85-606A52BF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F3BB0-9E68-484D-B746-CB3C603E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58504-3120-4C10-B951-05A62AD9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CB668-72F7-4F91-98B5-CB8877AA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608A8-E941-47D5-A3B0-F99B5B0ED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68FA5-A258-48F9-A261-4081F643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7B786-A282-42D8-8AC0-43649EE23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E8C6-850A-4B6E-A931-9D04ACF6A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A49E6-847A-4C8B-8AAD-C50BF103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D889A-9504-4074-AD47-C1867069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C2ACC-FB97-40A2-BBAC-52348099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92E62-6A2E-4E44-A603-66B00374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55867-8A17-4CFD-989E-72A4E604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00305-3A7F-477E-A1DC-316DEF56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32567-0278-4E45-AF17-7667B471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208E3-68AC-419D-946D-49BC3BF3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7CCDE-03F6-4DCC-80C9-7B521BEF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0019F-2F34-4FA0-AFE0-284AD8B1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B3C9-8599-477C-A581-3BBE26B0A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47989-85FD-457E-8CA2-673AC31C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9670B-F73B-4FC8-BD35-B41DB4DF9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1629D-1052-4A98-9C09-D4222703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FB0B0-C2C9-44AA-92E0-2CC1EDD3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F21B8-ACF3-4EAF-AF1A-0767D828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6E39B-6C02-4386-8C54-B1C5B4FD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86CF8-F92A-4CE1-B985-70A9143B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C827F-374F-496E-81DA-9B7CA44C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216EF-2182-4558-9F56-A8E44D0C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3F5A1-8A78-4083-AD2F-EFD88214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9235-95B3-4E70-A347-C832B69AE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1B5A7-AC86-4615-9346-42EADDB4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FBD19-8AA1-4F5A-B1A8-99C5B264C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67B10-1F34-4B2F-8B73-1C15CDDD1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912D1A-6FC8-4B73-B8D0-A40DD3D4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D902F-F595-4FCE-AF2E-534AD8AE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0D6A68-36FF-4F09-A105-29B1DDAC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5076DF-44C0-46EA-84A6-EE5898B7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BB9DD8-F0E8-404B-816A-51245547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177E3-7814-4DC0-8500-C2C4F8FD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E783B-B37D-414E-932E-FF959C3D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D43E-197F-4BA6-AE57-F6D4902A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B5590-5C4F-41AE-9448-3FCBE5E4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507C4-5A02-4D19-AB87-15FB90EC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028F37-235F-4ED4-BF6B-01B658FF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90B68D-9805-48E7-ABF9-8BD1CBF8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DBA62-F3E3-4604-BD12-F7B79A69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B638-0414-45A7-9682-A3AE99C1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4861-BD05-46E5-8470-66F372B3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6F11-B4C9-4340-8CBE-6BE9095D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39D8-B78C-4685-8BFF-63D7301E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3C49-9FFA-4DD7-95BA-5AC689A8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C731-4194-467F-B69F-6EEDD2E8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B496-6A0C-4702-B424-6F44E65D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13E2-5587-4BBD-AC6E-28FE2756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3806-F437-47BF-9367-A7D50813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72CD-DA47-4197-9288-2D3D2C61A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0B89-BDFA-40ED-8291-0BB86AC2A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61AE1-2F79-4FA0-8E24-7901C3D32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9C448-AB5C-495B-958A-F05DE93D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09A94-AD3C-4C78-BF30-C79B1EF5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580A6-7F5F-47BB-B593-8E972C73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EBCFB-5BD2-4071-963C-4936F9C2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F1EF-2F19-4B68-8C97-ED92293D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A7173-02E4-4C0A-A866-0D83C061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405A9-6A29-4440-BD77-47E689F4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07FFD-E759-4361-8739-99BA7D7B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06241-A20C-4A54-873B-D20DB656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0CC4C-EB2E-4D7A-83E7-B15BAAF0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6E289-2363-421C-82A6-9650AB9E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96292-45ED-415E-A6C0-CA4ADB89D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3C7C2-A1FA-44F8-84BE-2D5DE9397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13CCC-7087-4B60-8946-C15D9E26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324CC-4E79-4BD3-AE80-498BC28C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F2D6-7AFB-4EB0-BE92-2F5B33DE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20595-CCDF-4A04-A937-F608897A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F222A-73CE-4680-BA20-972061A3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56ED0-90DF-41B8-9ED6-2A653055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D679B-4E62-440C-96E6-57B0498C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A8D9A-55A0-4105-AAF4-17D74057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DBF5D-4C25-4A81-83E5-8520DC8A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97195-742C-4498-B793-59A6BEC8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B99C0-4303-492D-A9F1-150F903A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2F127-B615-43F0-BA90-A2E29D3C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E03F6-4B56-4741-9F6D-7F9E42528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4374-FB1D-4080-9025-56504310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6BDE1-0209-444B-8631-A01FBBC1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F7CB1-063B-4D89-8912-E5C2F570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F3FB9-FFDF-4185-9E39-6D17F3F9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E7251-C92F-4BC1-A928-7A647A7E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443A5-0AB9-4523-A135-9A778CB1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ECD46-FB72-45CF-96C7-8923249E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31009-FD82-43EE-AD3F-1DBA8390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BDA7F-426A-4760-8C92-EB8212D1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4A8F0-5B59-4388-BB49-A83451F9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60BE3-CB1B-4206-A237-94796406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23EE-039B-432F-B3B2-3D1DAF92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2F0B6-2507-461A-873C-078D872B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01FA6-6A33-4EDE-92D9-F22AF807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EE620-7083-4864-885F-C918D3E9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55FE0-D6E3-476C-9DAF-7DF35DB8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31786-AE62-4A05-837E-4F2D50E1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D6CCD-FF8D-4343-B4F5-440733A5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67D5C-799B-4416-A887-A4DCEB43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8CDF4-321A-433D-BC27-4BDEDB90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7A851-AC52-47A9-AD94-6D34800E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2B0C8-66E8-48A0-A04C-0772BFB9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7E6B-2D98-4E62-89AB-178A72B7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99844-9814-4A13-A390-5B2D498F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8079D-20B0-493C-AA8F-CD4F1B97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D24AE-7311-457A-BD13-628C39BF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442A2-E134-4A65-B2C8-82407CDDF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6E4F9-7FC7-4D5E-8A63-26C2B2CD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2DFBB-CEE1-4DAC-9D4A-5F86A76C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F09A5-6855-4FCE-8B96-237F652E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79F54-8798-4168-B03A-E88C9477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9BE0E-0A4C-4609-B58D-B2740364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CFD9B-E7C0-4170-843A-0CD4F144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02A1-7836-42A2-9CC6-BFC1895E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0489A-CB31-4231-8F56-20285933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1CB31-9C3D-4F2D-ABA9-CC4BB5DE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4456D-DD3B-4E19-852B-28DA93BF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956AE-7955-402B-9D9B-9BA2CDA4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0A575-3CE3-4075-82DA-C89AB72C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E85D9-511C-45FB-B400-CEE536579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3A7AE-354A-43E1-8136-DD81FA24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4C4C5-56AD-4CF5-843C-5A254A8C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64DD6-1BAC-4B2D-BE5F-1C00F58C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43DD9-B81A-4463-979F-03045D44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F8B0-DC3C-4157-A2DB-7AFCC5BD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90853-A9D6-455E-94AD-6FA23EEC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45314-2CB6-4696-8B04-3E0746A2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9843B-282A-494E-A03D-BEB86163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574DB-171D-424E-BE96-4C0A4D72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BE35F-7647-4630-AAE0-DF1D19F3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04650-4CA1-405A-95EA-832DC855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DB466-2D4B-4400-A162-180A2AF4B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9B3AB-7098-4E78-946E-6ADD14B5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D492D-4A41-47F2-A989-BB9A91F1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80533-4C79-4FF4-A6CE-DF435D6F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818F-65B2-457E-9F53-B85897EEB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1D78-A190-4CD7-BC26-0816C36C2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4414-38C4-486C-940A-A247A0254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5936-E1F3-44CC-8D9A-2ECEE5030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6B9E-51C5-458D-A0B6-E22825C21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0791-D016-4D17-9A69-0BEF53768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563B-6688-468B-9B98-EBF9D577D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A356-3C18-4084-A4C0-9C52BCF8B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94EB-2A93-417C-A8C2-B3A5B8128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2F5B-5BE8-4836-97BA-E2DDAB3C2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049C-75BE-4E37-9E9B-F8F112C03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D686-3C29-4409-837E-8C4237644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4.xml"/><Relationship Id="rId22" Type="http://schemas.openxmlformats.org/officeDocument/2006/relationships/slide" Target="slide24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8.xml"/><Relationship Id="rId26" Type="http://schemas.openxmlformats.org/officeDocument/2006/relationships/slide" Target="slide28.xml"/><Relationship Id="rId27" Type="http://schemas.openxmlformats.org/officeDocument/2006/relationships/slide" Target="slide30.xml"/><Relationship Id="rId28" Type="http://schemas.openxmlformats.org/officeDocument/2006/relationships/slide" Target="slide30.xml"/><Relationship Id="rId29" Type="http://schemas.openxmlformats.org/officeDocument/2006/relationships/slide" Target="slide32.xml"/><Relationship Id="rId30" Type="http://schemas.openxmlformats.org/officeDocument/2006/relationships/slide" Target="slide32.xml"/><Relationship Id="rId31" Type="http://schemas.openxmlformats.org/officeDocument/2006/relationships/slide" Target="slide34.xml"/><Relationship Id="rId32" Type="http://schemas.openxmlformats.org/officeDocument/2006/relationships/slide" Target="slide34.xml"/><Relationship Id="rId33" Type="http://schemas.openxmlformats.org/officeDocument/2006/relationships/slideLayout" Target="../slideLayouts/slideLayout85.xml"/><Relationship Id="rId3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219320"/>
          </a:xfrm>
          <a:custGeom>
            <a:avLst/>
            <a:gdLst>
              <a:gd name="textAreaLeft" fmla="*/ 78840 w 1828800"/>
              <a:gd name="textAreaRight" fmla="*/ 1749960 w 18288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2394" h="21600">
                <a:moveTo>
                  <a:pt x="0" y="0"/>
                </a:moveTo>
                <a:lnTo>
                  <a:pt x="32394" y="0"/>
                </a:lnTo>
                <a:lnTo>
                  <a:pt x="32394" y="21600"/>
                </a:lnTo>
                <a:lnTo>
                  <a:pt x="0" y="21600"/>
                </a:lnTo>
                <a:close/>
              </a:path>
              <a:path fill="lightenLess" w="32394" h="21600">
                <a:moveTo>
                  <a:pt x="0" y="0"/>
                </a:moveTo>
                <a:lnTo>
                  <a:pt x="32394" y="0"/>
                </a:lnTo>
                <a:lnTo>
                  <a:pt x="30994" y="1400"/>
                </a:lnTo>
                <a:lnTo>
                  <a:pt x="1400" y="1400"/>
                </a:lnTo>
                <a:close/>
              </a:path>
              <a:path fill="darken" w="32394" h="21600">
                <a:moveTo>
                  <a:pt x="32394" y="0"/>
                </a:moveTo>
                <a:lnTo>
                  <a:pt x="32394" y="21600"/>
                </a:lnTo>
                <a:lnTo>
                  <a:pt x="30994" y="20200"/>
                </a:lnTo>
                <a:lnTo>
                  <a:pt x="30994" y="1400"/>
                </a:lnTo>
                <a:close/>
              </a:path>
              <a:path fill="darkenLess" w="32394" h="21600">
                <a:moveTo>
                  <a:pt x="32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4" y="20200"/>
                </a:lnTo>
                <a:close/>
              </a:path>
              <a:path fill="lighten" w="32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13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yed chicken with cigarettes with Pony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Curly Shep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easer who started the rum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Dar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ived at the rumble 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o is D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ocation of Curly Shepard (why he’s not participating in the rumb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he is in j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question Ponyboy was asking all the Grea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why they fou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d because of a broken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me of the group that accompanied Tim Shepard to the rum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the Brumly bo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lly’s actions when he called the Curtis ho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robbed a grocery store &amp; was being chased by the c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Ponyboy ruined the man’s seats who gave him a r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e was bleeding all over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Johnny left for Po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one with the W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 Ponyboy was worried after he awoke from the hos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if he asked for Darry when he was s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John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 of time Ponyboy was out with a con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4 days (Saturday to Tuesd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me of the Soc who visited Pony at his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Randy Add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Randy and Ponyboy argue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who killed B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nny is dead/a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ture Ponyboy found while looking at Soda’s year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Bob Sheldon’s pi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 Darry gives Ponyboy a hard time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smoking in bed and picking up his m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’t stand the fighting between brothers any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 status of most of Ponyboy’s school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middle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ion Ponyboy’s grades w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down/they drop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e of Soda running out on Darry &amp; Po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oo much fighting (maybe some of Sandy bothering him too – the baby wasn’t h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ing of the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same way it started –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yboy was writing his theme paper about what happened (starting with going to the movies al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quote that Two-Bit tells Pony after the pop bottle inc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“Don’t get tough. You’re not like the rest of us and don’t try to b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Soda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 questioned first at the t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Ran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to cry at the hos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o is Dar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wo boys who started the rum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o is Darry &amp; Pa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20:10:38Z</dcterms:created>
  <dc:creator>Algona Community High School</dc:creator>
  <dc:description/>
  <cp:keywords/>
  <dc:language>en-US</dc:language>
  <cp:lastModifiedBy>ACSD</cp:lastModifiedBy>
  <dcterms:modified xsi:type="dcterms:W3CDTF">2011-02-24T16:25:16Z</dcterms:modified>
  <cp:revision>58</cp:revision>
  <dc:subject/>
  <dc:title>No Slide Title</dc:title>
</cp:coreProperties>
</file>